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FD8-0792-405D-80B0-0D708ED8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D65-ED87-4E33-BD5D-2BA1CF1E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58D-D0A9-4198-844D-13180FC8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D61-1779-46D7-AFE4-7BB3B2DA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FAA5-0201-470A-85F8-6147B605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9494-193C-490F-B5CD-ECFEA0A6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3CEA-1B58-404C-8C94-E7191CB6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E92B-5F50-43A0-A0D9-5E1650A9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8C88-9538-4552-89B4-A4FE1F4A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2537-1B92-4B1C-9288-4058CA90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6FE9-F7B0-4AAA-BF11-9FD293C4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812-23C7-4B37-AF39-D377868A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1C23-4606-40F8-B3ED-19D851ED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9D91-AC9D-407E-A8C3-7C657ED8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ECEC-1ABB-4867-A92A-EF926648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AFCC-B8AE-4A3B-8891-387416EA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F941-ECA9-4092-9971-1002522E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882-1E7A-49C9-9E92-B1205609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2D4-6C13-4007-AE48-EFBB2D0C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4C0-FE3C-4DE9-B14E-DFAF1289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564-6E26-40CF-BDF4-0C08132C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AE3-CE71-4E67-AE46-9A4C52CB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E8C-D6D6-4EFF-9D73-0B4217B1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431-4BD4-4195-9D4C-B0BEBEB3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57B3-D22A-4089-B985-98CB6F725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6F5E-B783-4D8A-B60C-075300669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Galileo y el péndul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907640" y="1557000"/>
            <a:ext cx="547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David Jaramillo Císca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2421000"/>
            <a:ext cx="4537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or de calidad,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7760" y="1197000"/>
            <a:ext cx="583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experimental del momento de iner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58920" y="1484280"/>
          <a:ext cx="6514920" cy="39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5149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301760" y="5407200"/>
                <a:ext cx="59691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</m:e>
                        </m:rad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2000" y="1052640"/>
            <a:ext cx="68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ación del momento de inercia teórico con el experim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3320" y="168480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Momento de inercia teóric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50920" y="2060640"/>
                <a:ext cx="4135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∗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rill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arill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arill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2479680" y="36540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Comparación teórico con el experi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050920" y="4437000"/>
                <a:ext cx="4843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oric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rimen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5356080" y="1628640"/>
            <a:ext cx="28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omento de inercia experimental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003640" y="2154240"/>
                <a:ext cx="3643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riment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el valor de g dando unos datos compatibles con el valor espe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Q, dando como resultado que el péndulo es un buen sistema oscilant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En cada ciclo pierde un 0.629% de la energía del siste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el momento de inercia del péndulo físico dando un resultado compatible con el valor teór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ndulo Si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48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esto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punto fijo,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objeto de masa,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cuerda de longitud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9280" y="1125360"/>
          <a:ext cx="338148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338148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95280" y="4226040"/>
                <a:ext cx="39225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Lθ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s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9280" y="5084640"/>
                <a:ext cx="36705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θ</m:t>
                    </m:r>
                    <m:r>
                      <m:t xml:space="preserve">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→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00000" y="5805360"/>
                <a:ext cx="1295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5013360"/>
            <a:ext cx="36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scilaciones pequeñ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7960" y="494172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851280" y="5805360"/>
                <a:ext cx="50115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ϕ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ϕ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den>
                            </m:f>
                          </m:e>
                        </m:nary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435640" y="5229360"/>
                <a:ext cx="930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ndulo Fís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debe a que esta sujeto en un punto diferente a su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9280" y="907920"/>
          <a:ext cx="2816280" cy="31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281628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9640" y="3716280"/>
                <a:ext cx="3146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924360" y="3645000"/>
                <a:ext cx="19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α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D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9960" y="422100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cilaciones pequeñ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55640" y="4724280"/>
                <a:ext cx="1546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588000" y="3645000"/>
                <a:ext cx="1000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26920" y="5218200"/>
                <a:ext cx="12956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081040" y="429264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356000" y="5013360"/>
                <a:ext cx="3743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tor de calidad, Q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3170160"/>
            <a:ext cx="4038480" cy="368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250920" y="476280"/>
          <a:ext cx="30020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6280"/>
                    <a:ext cx="30020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95640" y="5661000"/>
                <a:ext cx="1127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356000" y="3213000"/>
                <a:ext cx="3114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  <m:r>
                          <m:rPr>
                            <m:lit/>
                            <m:nor/>
                          </m:rPr>
                          <m:t xml:space="preserve">almacenada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rPr>
                            <m:lit/>
                            <m:nor/>
                          </m:rPr>
                          <m:t xml:space="preserve">cicl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  <m:r>
                          <m:rPr>
                            <m:lit/>
                            <m:nor/>
                          </m:rPr>
                          <m:t xml:space="preserve">perdida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rPr>
                            <m:lit/>
                            <m:nor/>
                          </m:rPr>
                          <m:t xml:space="preserve">cicl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572000" y="1413000"/>
            <a:ext cx="35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o no ide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istencia de ro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427640" y="2205000"/>
                <a:ext cx="2068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68360" y="263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va de resonanci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scilaciones forzad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995640" y="4724280"/>
                <a:ext cx="668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995640" y="3789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l sistema esta débilmente amortigu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995640" y="4221000"/>
                <a:ext cx="40388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427640" y="2924280"/>
                <a:ext cx="137880" cy="1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4643280" y="285264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mpo de relaj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er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ndulo 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375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mera par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 de los periodos para ángulos de 30º a 14º de dos en dos (también para los correspondientes ángulos negativ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obtener el periodo promedio (y corregir el error de ce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ención de g a partir de los 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gunda par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 del tiempo que tarda el péndulo en atravesar la fotocélula y calculo de su velocidad “instantanea” (   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o de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357720"/>
                <a:ext cx="965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187280" y="4076640"/>
                <a:ext cx="2068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343640" y="5281560"/>
                <a:ext cx="13208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79280" y="5516640"/>
                <a:ext cx="3425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28520" y="5780160"/>
                <a:ext cx="2828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140360" y="5661000"/>
                <a:ext cx="6681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er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ndulo fí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péndulo de la practica permite variar el plano de oscilación del péndu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o del periodo para distintos planos de osci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ción del momento de inercia de forma experimen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203640" y="2421000"/>
                <a:ext cx="11635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340000" y="4724280"/>
                <a:ext cx="3166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</m:e>
                    </m:rad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140360" y="1222200"/>
                <a:ext cx="1295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39640" y="5229360"/>
                <a:ext cx="3591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03640" y="5229360"/>
                <a:ext cx="29052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8</m:t>
                                        </m:r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684360" y="1052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de 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68360" y="1700280"/>
          <a:ext cx="777708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77770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840" y="1125360"/>
            <a:ext cx="52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ación de los valores de g obten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22200" y="1473120"/>
          <a:ext cx="792180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473120"/>
                    <a:ext cx="7921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3480" y="1125360"/>
            <a:ext cx="34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de 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116000" y="1557360"/>
          <a:ext cx="7000920" cy="34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70009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42960" y="5178600"/>
                <a:ext cx="2511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148360" y="5157720"/>
                <a:ext cx="2832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τσ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σ</m:t>
                                        </m:r>
                                      </m:e>
                                      <m:sub>
                                        <m:r>
                                          <m:t xml:space="preserve">τ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924360" y="1052640"/>
                <a:ext cx="208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556000" y="6237360"/>
                <a:ext cx="3535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Δ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629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16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4:23:15Z</dcterms:created>
  <dc:creator>david</dc:creator>
  <dc:description/>
  <dc:language>en-US</dc:language>
  <cp:lastModifiedBy>david</cp:lastModifiedBy>
  <dcterms:modified xsi:type="dcterms:W3CDTF">2008-02-23T21:23:15Z</dcterms:modified>
  <cp:revision>54</cp:revision>
  <dc:subject/>
  <dc:title> Galileo y el péndulo</dc:title>
</cp:coreProperties>
</file>