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54D-F10D-44AF-B35E-8EAEC952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25EB-2FA0-4A24-A1EF-0D5FBD9C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F86B-0587-4DEB-A0FF-CEF54F6A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069-0760-48C3-91C0-25E0F810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F242-15B7-49DE-971D-1394D314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EE66-78FC-42D9-9CE3-0E3CC11D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7368-11BC-4A6F-9614-D48D8A07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9FB1-2ADC-401D-9803-C290283E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3500-3C9E-40ED-996D-4D28CA8F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FFCF-B94C-4EE4-B8D4-214E8C7F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4BCB-9D6E-46E2-AED9-FF867DAB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711-DBDE-4925-A84F-0B3FD4CD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8FF5-0A6D-4D1B-8598-8587F06B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E3B4-589E-42A4-938B-3399D932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7607-3284-4711-984F-CA17097A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38D6-5175-4390-9A80-386C208F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0595-C14A-4D35-B064-358E27C7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FBE-D0F8-45AB-B84D-8B6E9A03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F77E-08ED-4605-B9D6-A24E0342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532-67A1-45DA-A22F-A7D2EB1F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CA7B-3FF0-45FB-99B1-7E38D105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6F76-E628-4E80-9DEE-62EC5DE1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5BD-29CC-40D8-993F-18F6972B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7F9A-F6AA-4374-A388-7E1F5DA1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794C-FDC6-4752-B823-7F619F505B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D156-2376-4474-9AC3-A931530447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Galileo y el péndul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907640" y="1557000"/>
            <a:ext cx="5472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David Jaramillo Císca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2421000"/>
            <a:ext cx="4537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si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fís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or de calidad,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r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7760" y="1197000"/>
            <a:ext cx="583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físico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terminación experimental del momento de inerc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4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258920" y="1484280"/>
          <a:ext cx="6514920" cy="398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84280"/>
                    <a:ext cx="65149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301760" y="5407200"/>
                <a:ext cx="596916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</m:t>
                                </m:r>
                              </m:sub>
                            </m:sSub>
                          </m:e>
                        </m:rad>
                        <m:r>
                          <m:t xml:space="preserve">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rad>
                        <m:r>
                          <m:t xml:space="preserve">→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m</m:t>
                                        </m:r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2000" y="1052640"/>
            <a:ext cx="68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físico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ación del momento de inercia teórico con el experimen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3320" y="1684800"/>
            <a:ext cx="22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Momento de inercia teórico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50920" y="2060640"/>
                <a:ext cx="4135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∗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rill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4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arill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arilla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2479680" y="3654000"/>
            <a:ext cx="39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Comparación teórico con el experi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050920" y="4437000"/>
                <a:ext cx="48434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oric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rPr>
                            <m:lit/>
                            <m:nor/>
                          </m:rPr>
                          <m:t xml:space="preserve">erimen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g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5356080" y="1628640"/>
            <a:ext cx="28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Momento de inercia experimental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003640" y="2154240"/>
                <a:ext cx="3643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rPr>
                            <m:lit/>
                            <m:nor/>
                          </m:rPr>
                          <m:t xml:space="preserve">erimenta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g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ha calculado el valor de g dando unos datos compatibles con el valor esper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ha calculado Q, dando como resultado que el péndulo es un buen sistema oscilant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En cada ciclo pierde un 0.629% de la energía del sistem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ha calculado el momento de inercia del péndulo físico dando un resultado compatible con el valor teór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éndulo Si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348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esto p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punto fijo, 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objeto de masa,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a cuerda de longitud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79280" y="1125360"/>
          <a:ext cx="3381480" cy="31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25360"/>
                    <a:ext cx="3381480" cy="31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95280" y="4226040"/>
                <a:ext cx="39225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s</m:t>
                              </m:r>
                              <m:r>
                                <m:t xml:space="preserve">=</m:t>
                              </m:r>
                              <m:r>
                                <m:t xml:space="preserve">Lθ</m:t>
                              </m:r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s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→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79280" y="5084640"/>
                <a:ext cx="36705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θ</m:t>
                    </m:r>
                    <m:r>
                      <m:t xml:space="preserve">→</m:t>
                    </m:r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→</m:t>
                    </m:r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900000" y="5805360"/>
                <a:ext cx="1295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5013360"/>
            <a:ext cx="367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Oscilaciones pequeña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07960" y="494172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ción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851280" y="5805360"/>
                <a:ext cx="50115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dϕ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i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(</m:t>
                                    </m:r>
                                    <m:r>
                                      <m:t xml:space="preserve">ϕ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rad>
                              </m:den>
                            </m:f>
                          </m:e>
                        </m:nary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435640" y="5229360"/>
                <a:ext cx="930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éndulo Físic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987640" y="1773360"/>
            <a:ext cx="403848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debe a que esta sujeto en un punto diferente a su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79280" y="907920"/>
          <a:ext cx="2816280" cy="31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7920"/>
                    <a:ext cx="2816280" cy="31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9640" y="3716280"/>
                <a:ext cx="31464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 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924360" y="3645000"/>
                <a:ext cx="192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α</m:t>
                    </m:r>
                    <m:r>
                      <m:t xml:space="preserve">=</m:t>
                    </m:r>
                    <m:r>
                      <m:t xml:space="preserve">I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φ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D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36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9960" y="422100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scilaciones pequeñ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55640" y="4724280"/>
                <a:ext cx="1546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588000" y="3645000"/>
                <a:ext cx="1000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D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826920" y="5218200"/>
                <a:ext cx="12956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gD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5081040" y="429264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ción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356000" y="5013360"/>
                <a:ext cx="37432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gD</m:t>
                            </m:r>
                          </m:den>
                        </m:f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ctor de calidad, Q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3170160"/>
            <a:ext cx="4038480" cy="368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250920" y="476280"/>
          <a:ext cx="300204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76280"/>
                    <a:ext cx="30020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95640" y="5661000"/>
                <a:ext cx="11271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ω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f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356000" y="3213000"/>
                <a:ext cx="31147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nergía</m:t>
                        </m:r>
                        <m:r>
                          <m:rPr>
                            <m:lit/>
                            <m:nor/>
                          </m:rPr>
                          <m:t xml:space="preserve">almacenada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  <m:r>
                          <m:rPr>
                            <m:lit/>
                            <m:nor/>
                          </m:rPr>
                          <m:t xml:space="preserve">cicl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nergía</m:t>
                        </m:r>
                        <m:r>
                          <m:rPr>
                            <m:lit/>
                            <m:nor/>
                          </m:rPr>
                          <m:t xml:space="preserve">perdida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  <m:r>
                          <m:rPr>
                            <m:lit/>
                            <m:nor/>
                          </m:rPr>
                          <m:t xml:space="preserve">cicl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4572000" y="1413000"/>
            <a:ext cx="35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o no ide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istencia de roz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427640" y="2205000"/>
                <a:ext cx="20685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468360" y="2637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va de resonancia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scilaciones forzad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995640" y="4724280"/>
                <a:ext cx="668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3995640" y="378936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el sistema esta débilmente amortigu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995640" y="4221000"/>
                <a:ext cx="403884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4427640" y="2924280"/>
                <a:ext cx="137880" cy="1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4643280" y="2852640"/>
            <a:ext cx="32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mpo de relaj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er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éndulo si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375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mera par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da de los periodos para ángulos de 30º a 14º de dos en dos (también para los correspondientes ángulos negativ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 obtener el periodo promedio (y corregir el error de ce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ención de g a partir de los da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gunda par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da del tiempo que tarda el péndulo en atravesar la fotocélula y calculo de su velocidad “instantanea” (                 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o de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47640" y="3357720"/>
                <a:ext cx="9655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187280" y="4076640"/>
                <a:ext cx="2068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343640" y="5281560"/>
                <a:ext cx="13208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79280" y="5516640"/>
                <a:ext cx="34257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t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28520" y="5780160"/>
                <a:ext cx="28288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140360" y="5661000"/>
                <a:ext cx="6681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er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éndulo fí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péndulo de la practica permite variar el plano de oscilación del péndu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o del periodo para distintos planos de oscil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ción del momento de inercia de forma experimen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203640" y="2421000"/>
                <a:ext cx="11635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340000" y="4724280"/>
                <a:ext cx="31669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sub>
                        </m:sSub>
                      </m:e>
                    </m:rad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→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140360" y="1222200"/>
                <a:ext cx="12952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39640" y="5229360"/>
                <a:ext cx="3591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7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L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s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003640" y="5229360"/>
                <a:ext cx="29052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4</m:t>
                                        </m:r>
                                        <m:sSup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8</m:t>
                                        </m:r>
                                        <m:sSup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L</m:t>
                                        </m:r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684360" y="10526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simple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terminación de 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68360" y="1700280"/>
          <a:ext cx="7777080" cy="35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777708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840" y="1125360"/>
            <a:ext cx="52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simple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ación de los valores de g obteni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222200" y="1473120"/>
          <a:ext cx="792180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2200" y="1473120"/>
                    <a:ext cx="792180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3480" y="1125360"/>
            <a:ext cx="34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éndulo simple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terminación de 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116000" y="1557360"/>
          <a:ext cx="7000920" cy="345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57360"/>
                    <a:ext cx="700092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42960" y="5178600"/>
                <a:ext cx="25113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148360" y="5157720"/>
                <a:ext cx="2832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97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τσ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σ</m:t>
                                        </m:r>
                                      </m:e>
                                      <m:sub>
                                        <m:r>
                                          <m:t xml:space="preserve">τ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924360" y="1052640"/>
                <a:ext cx="2082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556000" y="6237360"/>
                <a:ext cx="35352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Δ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t xml:space="preserve">→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629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16</m:t>
                    </m:r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14:23:15Z</dcterms:created>
  <dc:creator>david</dc:creator>
  <dc:description/>
  <dc:language>en-US</dc:language>
  <cp:lastModifiedBy>david</cp:lastModifiedBy>
  <dcterms:modified xsi:type="dcterms:W3CDTF">2008-02-23T21:23:15Z</dcterms:modified>
  <cp:revision>54</cp:revision>
  <dc:subject/>
  <dc:title> Galileo y el péndulo</dc:title>
</cp:coreProperties>
</file>