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5.png" ContentType="image/png"/>
  <Override PartName="/ppt/media/image40.png" ContentType="image/png"/>
  <Override PartName="/ppt/media/image47.wmf" ContentType="image/x-wmf"/>
  <Override PartName="/ppt/media/image31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B97F-5F23-41D6-A0A6-6946908CAB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envolupar exp(hv/kT) = 1+ hv/kt -&gt; I(v,T) = 2kTv^2 /c^2 (augment cuadratic de la intensitat amb la frecuencia, igual que en  llei de Rayleigh-J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218-2775-4515-ADB8-3C59436C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6F2-D185-42D6-AA3D-5264324A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A22-17FD-46F1-9DF1-0AAA72F8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0D7-5AD2-407A-9079-20FD7F8C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3D94-5651-4548-B25D-013BBF98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4365-DB4A-4FC8-A20E-4BF2455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C3C1-72C1-401E-ACE7-CAB5906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A68F-BAF7-4A11-A33A-4CF4199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F021-A787-47F1-BE88-41276D62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B751-BAE3-4C5A-9105-B10C0AD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0491-E478-47D7-8299-39B47F6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69C-69D3-4CE4-9277-CE7DE39C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3983-C0A8-41F6-8506-4077253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285D-74D7-49E3-8407-4DEF8E3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B9E-C10A-4A40-815C-DCB2292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E5F0-554F-41CD-84DB-E4024D33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4849-60D1-44CD-ABE4-DA1A132B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90E-8D31-4B72-94C5-2096A3F7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3B4-2927-4F11-BE9F-3399265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A8A-A225-49DE-B280-EBF2FA3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4F0-B6F3-4D1A-8BFA-E63A0F1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36B-CFD4-4AEE-9384-E1C8000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75F-F5FD-4D1D-B63B-14CBFF9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108-8A51-4D6C-9B85-72D476A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3B3E-C9E4-4981-AB96-3CB1A3DFC15B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31B-C382-426D-BD45-4CD9BE970A49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b2b2b2"/>
                </a:solidFill>
                <a:latin typeface="Arial"/>
              </a:rPr>
              <a:t>RADIACIÓ TÉRMIC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951200"/>
            <a:ext cx="4537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s n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Defini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Plan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Stefan-Boltzman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W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xemples - Utilit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misivit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Kirchhof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Utilitats – Piròmetre de radia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Result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2920" y="1341360"/>
          <a:ext cx="696924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6969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Llei de Kirchhoff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716360" y="1557360"/>
          <a:ext cx="332424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33242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403280" y="4437000"/>
          <a:ext cx="10191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437000"/>
                    <a:ext cx="1019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076720" y="3284640"/>
          <a:ext cx="3260880" cy="28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284640"/>
                    <a:ext cx="326088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1484280"/>
            <a:ext cx="367200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ssos gr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Els objectes reals no es comporten com a cossos negres ide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No absorbeixen tota l’energia in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 de Kirchh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En equilibri tèrmic la absortivitat és  igual a la emissivit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651640" y="2492280"/>
                <a:ext cx="1555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εσ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b2b2b2"/>
                </a:solidFill>
                <a:latin typeface="Arial"/>
              </a:rPr>
              <a:t>Emisivitat</a:t>
            </a: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emples - utilitats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n teledetec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s basa en que cada objecte emiteix en un espectre electromagnètic especif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3017880"/>
          <a:ext cx="91440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788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iròmetre de radiació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iròmetre de radi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erveixen per a mesurar la temperatura dels objectes sense necessitar contacte dir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Cal conèixer l’emissivitat del obj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Fa us de la radiació termica del objecte per determinar la tempera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4365720"/>
          <a:ext cx="4578480" cy="22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65720"/>
                    <a:ext cx="457848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867280" y="1413000"/>
          <a:ext cx="2098800" cy="18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413000"/>
                    <a:ext cx="20988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796000" y="3500280"/>
          <a:ext cx="2362320" cy="17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3500280"/>
                    <a:ext cx="23623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300720" y="54450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terial utilit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Sensor de radi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ub de Lesl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àmpada de Stefan-Boltz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2 polime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font d'aliment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ables de connex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1628640"/>
            <a:ext cx="34578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Determinació de les emissivitats de cada una de les parets del cub de Lesl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Comprovació de la llei de Stefan-Boltzm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Descripció dels material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Sensor de radi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isposa d'un anell desplaçable, que permet obrir i tancar el sen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Genera una tensió proporcional a la intensitat de la radiació que rep, aquesta tensió es mesura amb un voltíme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ub de Les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ub de parets de alumini en les cuals en les cares exteriors estan tratades de forma dife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Metall pol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Metall 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intura blan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intura neg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497560" y="1600200"/>
          <a:ext cx="23382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7560" y="1600200"/>
                    <a:ext cx="23382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076720" y="4005360"/>
          <a:ext cx="31672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005360"/>
                    <a:ext cx="31672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Descripció dels material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àmpada de Stefan-Boltz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una font de radiació visible que pot arribar a temperatures de fins a 3000º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temperatura del filament es determina calculant la seua resistencia elect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635280" y="3573360"/>
          <a:ext cx="483084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573360"/>
                    <a:ext cx="48308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procedeix a calfar el cub de Leslie amb el sel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volta en equilibri s’usa el sensor per a determinar l’energia irradiada per les par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Suposarem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calcula la resta d’emissivitats per comparaci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11280" y="3500280"/>
                <a:ext cx="982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r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4500720" y="3645000"/>
          <a:ext cx="37591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645000"/>
                    <a:ext cx="3759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76360" y="4724280"/>
                <a:ext cx="863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Resultats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258920" y="1700280"/>
          <a:ext cx="6562800" cy="2549160"/>
        </p:xfrm>
        <a:graphic>
          <a:graphicData uri="http://schemas.openxmlformats.org/drawingml/2006/table">
            <a:tbl>
              <a:tblPr/>
              <a:tblGrid>
                <a:gridCol w="1093320"/>
                <a:gridCol w="1094040"/>
                <a:gridCol w="1094040"/>
                <a:gridCol w="1093680"/>
                <a:gridCol w="1094040"/>
                <a:gridCol w="1093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1844640"/>
                <a:ext cx="5590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7280" y="1844640"/>
                <a:ext cx="6350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564000" y="1871640"/>
                <a:ext cx="842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r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610240" y="1844640"/>
                <a:ext cx="1073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id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22680" y="1844640"/>
                <a:ext cx="10749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c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761160" y="1844640"/>
                <a:ext cx="1052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t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11280" y="5013360"/>
                <a:ext cx="541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11640" y="5013360"/>
                <a:ext cx="541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13360"/>
                <a:ext cx="501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1763640" y="5084640"/>
          <a:ext cx="5473800" cy="669960"/>
        </p:xfrm>
        <a:graphic>
          <a:graphicData uri="http://schemas.openxmlformats.org/drawingml/2006/table">
            <a:tbl>
              <a:tblPr/>
              <a:tblGrid>
                <a:gridCol w="1824120"/>
                <a:gridCol w="1825560"/>
                <a:gridCol w="1824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7 ± 0.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4 ±0.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35 ±0.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coloca el sensor al costat de la làmp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regula la tensió amb la font d’aliment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calcula tant la resistència de la làmpada com la tensió del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771640" y="4221000"/>
          <a:ext cx="540720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221000"/>
                    <a:ext cx="54072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Definicions prèv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1359000"/>
          <a:ext cx="561996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59000"/>
                    <a:ext cx="561996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627280" y="3357720"/>
          <a:ext cx="3378240" cy="31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357720"/>
                    <a:ext cx="337824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Resultats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71640" y="1413000"/>
          <a:ext cx="7210440" cy="370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21044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124000" y="5084640"/>
          <a:ext cx="145728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084640"/>
                    <a:ext cx="14572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195640" y="5805360"/>
          <a:ext cx="147636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5805360"/>
                    <a:ext cx="14763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635280" y="530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Compatible amb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5950080"/>
            <a:ext cx="47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No es compatible amb log(      )=-16.6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Açò es deu a que l’emissivitat no es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804000" y="6021360"/>
                <a:ext cx="349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’ha calculat l’emissivitat de 3 cares difer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’ha comprovat experimentalment la llei de Stefan-Boltzman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Deducció llei de Wi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3400" y="159984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39640" y="404640"/>
                <a:ext cx="1016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1640" y="1589040"/>
                <a:ext cx="1079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340000" y="1484280"/>
            <a:ext cx="496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continua per a tot x i  (x &gt; 1.7 ^ g(x) &gt;1.7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eua derivada es continua i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A més la successió de g(x) tendeix al punt fix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6720" y="1557360"/>
                <a:ext cx="12193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46720" y="1916280"/>
                <a:ext cx="37972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!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50920" y="2924280"/>
            <a:ext cx="3671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 u="sng">
                <a:solidFill>
                  <a:srgbClr val="ffffff"/>
                </a:solidFill>
                <a:uFillTx/>
                <a:latin typeface="Arial"/>
              </a:rPr>
              <a:t>Codi per a 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def inter(x, numinter, tol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0 =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rror = 10*t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while(i&lt;numinter and error&gt;tol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 = 5*(1-math.e**(-x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rror = abs(x-x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0 =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 +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rint i, error,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08360" y="3213000"/>
          <a:ext cx="3168720" cy="606600"/>
        </p:xfrm>
        <a:graphic>
          <a:graphicData uri="http://schemas.openxmlformats.org/drawingml/2006/table">
            <a:tbl>
              <a:tblPr/>
              <a:tblGrid>
                <a:gridCol w="719280"/>
                <a:gridCol w="1008000"/>
                <a:gridCol w="144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*10^-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65114282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635280" y="278136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ffff"/>
                </a:solidFill>
                <a:latin typeface="Arial"/>
              </a:rPr>
              <a:t>Ex: inter(200, 50, 0.000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484360" y="4941720"/>
                <a:ext cx="6489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511428249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kλT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λ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11428249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8991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91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efinició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noció de cos negre va ser introduït per Gustav Kirchoff en 1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 cos negre es un objecte teòric que absorbeix tota la radiació que re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eua radiació depèn únicament de la temperatura a la que es trob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292720" y="1484280"/>
          <a:ext cx="29545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484280"/>
                    <a:ext cx="29545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435640" y="4005360"/>
          <a:ext cx="2663640" cy="23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005360"/>
                    <a:ext cx="2663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5640" y="189000"/>
            <a:ext cx="1201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, Introducció històrica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05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Lei de Rayleigh-J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Va ser la primera en intentar explicar la radiància electromagnètica del cos negre a una temperatura T, utilitzant electromagnetisme clàs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’aprecia que si                  la radiància tendeix a infi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2781360"/>
                <a:ext cx="1844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27280" y="3716280"/>
                <a:ext cx="711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5508720" y="1773360"/>
          <a:ext cx="310176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773360"/>
                    <a:ext cx="310176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84360" y="4508640"/>
            <a:ext cx="1498320" cy="20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3492360" y="4508640"/>
            <a:ext cx="1606680" cy="19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12000" y="4508640"/>
          <a:ext cx="22255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4508640"/>
                    <a:ext cx="22255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, Introducció històrica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atàstrofe ultraviol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xperiments de  Lummer i Pringsheim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Estudi experimental de la intensitat de la radiació del cos negre per a diferents longituds d’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mprovació de la llei de Rayleigh-Jeans per a altes longituds d’ona (baixes frecuen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tradicció amb la llei de Rayleigh-Jeans per a baixes longituds d’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48360" y="1587600"/>
          <a:ext cx="29811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587600"/>
                    <a:ext cx="29811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79640" y="4437000"/>
            <a:ext cx="141912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8000" y="63817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tto Lum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6381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rnst Pringsheim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Plan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’ajusta perfectament a l’espectre del cos neg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00720" y="1500120"/>
          <a:ext cx="40449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500120"/>
                    <a:ext cx="40449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4248000" cy="2190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97452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68360" y="2637000"/>
          <a:ext cx="2770200" cy="63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637000"/>
                    <a:ext cx="27702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11280" y="3357720"/>
          <a:ext cx="269712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3357720"/>
                    <a:ext cx="26971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20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Stefan-Boltzmann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Stefan-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ntegració de la llei de Planck per a totes les longituds d’o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trobar l’energia irradiada per un cos negre hi ha que multiplicar E per la seua superfic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el cas de una esfera:                                (cas útil en astronomí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2492280"/>
          <a:ext cx="255276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25527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900000" y="3068640"/>
          <a:ext cx="27910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068640"/>
                    <a:ext cx="27910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00720" y="2438280"/>
          <a:ext cx="312408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438280"/>
                    <a:ext cx="3124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95280" y="115920"/>
            <a:ext cx="1239840" cy="1376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7451640" y="115920"/>
            <a:ext cx="1251000" cy="13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419640" y="4869000"/>
          <a:ext cx="111420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869000"/>
                    <a:ext cx="11142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2400"/>
            </a:b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lei de Wien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Wi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elació entre         a la qual hi ha radiancia màxima i la temperatura del cos neg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Originalment experime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Es pot deduir de la llei de Plan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191628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258920" y="2421000"/>
          <a:ext cx="2066760" cy="2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21000"/>
                    <a:ext cx="206676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870120" cy="123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2697480" cy="61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8000" y="4005360"/>
                <a:ext cx="8064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c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c</m:t>
                                        </m:r>
                                      </m:num>
                                      <m:den>
                                        <m:r>
                                          <m:t xml:space="preserve">λ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  <m:r>
                          <m:t xml:space="preserve">≠</m:t>
                        </m:r>
                        <m:r>
                          <m:t xml:space="preserve">∞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0920" y="515772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No te solució analítica, però es pot resoldre per iteració de punt fix. </a:t>
            </a: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(Resolució al final de la presentació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932360" y="1125360"/>
          <a:ext cx="375300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125360"/>
                    <a:ext cx="3753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80000" y="4653000"/>
          <a:ext cx="2822760" cy="20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4653000"/>
                    <a:ext cx="28227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8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emples - utilitats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n astro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er a calcular la temperatura de les estrel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Radiació de còsmica de fons (radiació de cos negre per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1114200" cy="1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78200" cy="282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3645000"/>
                <a:ext cx="8506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8" name=""/>
          <p:cNvGraphicFramePr/>
          <p:nvPr/>
        </p:nvGraphicFramePr>
        <p:xfrm>
          <a:off x="468360" y="4005360"/>
          <a:ext cx="3222720" cy="26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005360"/>
                    <a:ext cx="322272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859280" y="4286160"/>
            <a:ext cx="3111480" cy="25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-100080"/>
          <a:ext cx="314316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-100080"/>
                    <a:ext cx="3143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</cp:lastModifiedBy>
  <dcterms:modified xsi:type="dcterms:W3CDTF">2008-03-28T19:02:18Z</dcterms:modified>
  <cp:revision>160</cp:revision>
  <dc:subject/>
  <dc:title>PowerPoint Presentation</dc:title>
</cp:coreProperties>
</file>